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B172-08B2-4976-9FD3-225EAB81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593A-BF1D-4C89-BA3F-EE638A77A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30A-9CE1-454E-A7D7-55D34D7C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26D-5898-4772-A3B5-B8B17949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258-7C66-490D-95B8-C0A647B6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3E4-FAEC-4914-A3AD-01DF9DF0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00D-BED9-4C9B-9C97-6DFC609D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D03-0264-484D-87D2-E9868F2C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824-F972-4171-9905-5A71CC4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848-A810-4966-8995-E5ECB4CB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745-E58E-4AF3-B918-601828D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259-A8ED-4BD3-81DC-D79BDCB1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DEE-813C-4DFF-AC3B-74388304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2A2-3734-4476-9C17-50F43E48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wit_achterkant_liggend_NL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8A3-78C5-49E2-8329-763C7B32BC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55640" y="16128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RK Ageing Se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55640" y="2852640"/>
            <a:ext cx="8209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ageing affects all ag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arl A. Dyk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Queen’s University Belfast, September 17, 201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066680" y="54936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retireme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ndparenthood speeds up retirement, particularly for older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ompelling finding, given efforts to increase labour fo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ipation in Europ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Bavel &amp; De Winter (2013), based on 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See 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skanen et al., 2014 for retirement inten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4DE0-A1F7-4B04-AE9D-32FB138F03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066680" y="54936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mobilit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oth men and women: a strong and statistically significant net* association between grandparents’** and grandchildren’s class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ontrolling for parents’ social class, educational  attainment, wealth, and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maternal grand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parents’ effect in social mobility most striking in cases of upward countermobility (not! regression towards the m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n &amp; Boliver (2013), based on 1946, 1958 and 1970 British birth coh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5997-D064-476C-95AA-9AAEC67E9D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066680" y="54936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chil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ater likelihood another child 8 to 10 years l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grandparents regularly provided child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time of the first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= support for cooperative breeding hypoth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ptijn et al. (2010), based on NESTOR-LSN and LASA, 1992 –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e als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k &amp; Kreyenfeld, 2003; Aassve, Meroni, &amp; Pronzato,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0F2F-4231-4624-919B-4DB3588932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92160" y="861840"/>
            <a:ext cx="768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 so f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o avoid a “chopped up” notion of what families are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2078-44FE-490D-8A3E-A93A880E98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992160" y="1208160"/>
            <a:ext cx="768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al interdependence is shaped by laws and policies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 from a cross-nationa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dependence: emotional, practical, financial, moral reliance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sponsibility for famil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AD52-1963-428E-B32E-4114439A80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826920" y="671400"/>
            <a:ext cx="8137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cus on “intergenerational” laws and polici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-28 + Norway +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S,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sometimes OECD,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A210-0326-4D77-8DBF-B72BCB258C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862560" y="422280"/>
            <a:ext cx="690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erived benefits: Care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zerland: only country that has statutory maternity le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, no leave for fa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: no statutory leave for mothers or fa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number of countries have father quotas/bon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s to care for dependents: gender neutral descrip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men more likely to make use of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1BE0-E206-481E-BC57-A2649A648D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826920" y="404640"/>
            <a:ext cx="813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erived benefits: Car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n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in recognition of the unpaid work of child rearing and family c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ountries flat-rated credits rather than earnings-related (disadvantage for better qualified wo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flat rates are not applied in the mor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cial security arrangements of unemployment, health or accident insurance (Marin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ome countries care credits only awarded to women or only to men when women waive their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 credits: source of debate between ‘care feminis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‘employment feminis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CA68-06E8-4AFF-B3CF-CD72FD2954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1001880" y="614520"/>
            <a:ext cx="8137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andated interdependenc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duties are tied to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ge (e.g., parents financially responsible until child reaches the age of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rights are tied to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ge (e.g., parents entitled to financial support until child turns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rights are tied to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duration of role occupancy (e.g., father can qualify for leave only if the mother also meets work duration requiremen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duration has negative effects on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duration (e.g., if paid illness leave exceeds a maximum, the care provider may lose full pension righ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3892-CC00-4CF4-8066-6BBE53A3F7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996840" y="765000"/>
            <a:ext cx="7175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andated interdependenc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wer of attorney, authority of parents/guar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tenance responsibilities (wide variation acro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nations regarding which family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includ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reme example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7FA7-885D-4514-80E7-260548AA26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026000" y="1413000"/>
            <a:ext cx="773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iration come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unhild O. Hagestad &amp; Pearl A. Dyk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ation of the life course: Some neglected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andbook of the life cours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2nd edition, 20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 T. Mortimer, M. J. Shanahan, &amp; M. K. Johnson (Ed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4CEA-B886-431D-80DA-2597B5F2D3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6391440" cy="41814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1102320" y="662040"/>
            <a:ext cx="52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treme form of mandated interdepen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BF91-BFE3-4CE6-9F6A-09705D00BB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881640" y="549360"/>
            <a:ext cx="583308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Implicit versus explicit inter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define rights and duties of family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each other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plic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while poli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their absence) reward or discourage partic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practice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lic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lleng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how country-specif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frameworks impo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en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amily members and/or support individ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f. O’Connor,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873B-FD40-4EB2-B227-41061D6344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755640" y="1484280"/>
            <a:ext cx="849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cation of responsibilities between state and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possible policy patterns (Saraceno &amp; Keck,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ialism by 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no or few publicly provi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ernatives to family care and/or financi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ed familial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policies support familie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ing up their financial and caring responsib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e.g. paid leaves, child benefits, cash for c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y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miliali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are and financial needs are par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ed through public provision (e.g. servic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multilinks_rgb_onWhite"/>
          <p:cNvPicPr/>
          <p:nvPr/>
        </p:nvPicPr>
        <p:blipFill>
          <a:blip r:embed="rId2"/>
          <a:stretch/>
        </p:blipFill>
        <p:spPr>
          <a:xfrm>
            <a:off x="5456160" y="0"/>
            <a:ext cx="3689280" cy="13716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8E1-9CAA-449D-B3CB-6614ABE999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812880" y="476280"/>
            <a:ext cx="77756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ceno &amp; Keck 2011: Importance of distinguish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public provisions (cf. Gornick &amp; Meyer, 2008; Javornick, 2014; Leitner,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mplications for gender and socioeconomic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h for care pay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n more easily by women than men, and by low paid women than high pai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ervi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better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sist men and women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ciling paid and unpaid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4ED6-964C-41D3-B013-1B7D578059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804960" y="44280"/>
            <a:ext cx="8088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irical evidence is now emerging,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HP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endroth et al (2014): the motherhoo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occupational status penal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er in European countries where expenditures on public childcare are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ry to expectations: not exacerbated in countries with high spending on family cash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mid et al (2012)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mbal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proportions of men and women providing intensive care is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ging parents receive cash for care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n addition to the care received from adult 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 when they receive services in k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B945-C09A-44E9-AE1E-B2BC6D5C88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766800" y="476280"/>
            <a:ext cx="8126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, cont’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: gender convergence in interdependence as structured by law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t: strong contrasts between how men and wom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u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ve thei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y (2013): men and women have different “master status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BC84-EEB3-4C19-9788-4A4AE294D4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766800" y="47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cus on intergenerational interdependence neglects those with no or limited vertical ties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focus on the child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07AB-8212-48FE-AB4D-944FAF1CD0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766800" y="476280"/>
            <a:ext cx="7775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ves of the childless are not following ready-made scripts—contrary to those of parents (Dykstra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influence of parenth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societ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 by law (du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-level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nue toward social inte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soc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-level of individual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s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hood as “transforming event”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392-8B1F-4167-912E-A131A02A19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766800" y="476280"/>
            <a:ext cx="777564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block interdepen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etween the childless and their network members (Ivanova &amp; Dykstra, 2015),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tlements to care leaves restricted to parents, children and sp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legal rights for non-relatives in health and car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stantially higher inheritance taxation for non-rel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5196-36C9-4FD6-A855-B47119E679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766800" y="476280"/>
            <a:ext cx="77756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, cont’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cial to rethink the primacy of family members in current legal arrangements (medical decisions, care, inheritance, tax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CA44-F2EC-462A-90BC-660506AF63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55640" y="612720"/>
            <a:ext cx="813744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mographic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increased longe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opportunities for intergenerational conn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3"/>
          <p:cNvCxnSpPr/>
          <p:nvPr/>
        </p:nvCxnSpPr>
        <p:spPr>
          <a:xfrm>
            <a:off x="7380000" y="1412640"/>
            <a:ext cx="1152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9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44D1-2D2E-41F1-A276-479585E24D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1094760" y="343080"/>
            <a:ext cx="6596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Recal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opportunities for intergenerational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ols of eligible ‘others’ shap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mographic shifts in proportions young and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Matthews &amp; Sun, 2006; Murphy et al.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etal age segregation (Hagestad &amp; Uhlenberg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1042920" y="404640"/>
            <a:ext cx="7338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e segre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.e. separation of age groups in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ected topic, apart from research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gap” (’60s and ’70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wars” (’80s onwa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age groups is produced and reinforced by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partitie” life course (Kohli, 1985; Riley &amp; Riley,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 for concern about age segregation: production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duct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e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agestad &amp; Uhlenberg, 2005a, 200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ing argument around: ageism might be reduced thr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oss-age inter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f. Allport, 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042920" y="476280"/>
            <a:ext cx="7561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Key principl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urable intera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people of different ages foster mutual understanding (e.g., Pettigrew,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d o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having friends who differ in a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du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eist attitudes that young people [old people] have of old people [young peopl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042920" y="476280"/>
            <a:ext cx="73389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data: round 4 of the ESS (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-item module on “experiences and expressions of ageis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Abrams, Lima &amp; Cour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oss-age friend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how many friends, other than members of your family, do you have who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n 30?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ed o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0?)” (0, 1, 2-5, 6-9, 10 or m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e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how negative or positive d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el towards peopl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20s? (over 70?)” (0 = extremely negative, 10 = extrem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 EU countries (no ESS in IT, LU, M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respondents &lt; 30 (N~8700), and ≥ 70 (N~66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042920" y="476280"/>
            <a:ext cx="7338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criptiv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% repor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ing two or m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oss-ag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30: 18% (range: 4% LT, 36% 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: 31% (range: 6% LT, 50% 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ageism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&lt; 30: 2.7 (range: 1.9 FI, 3.7 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0: 3.1 (range: 2.0 GR, 4.0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1116000" y="260280"/>
            <a:ext cx="73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geism and cross-age interaction (mean level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836640"/>
          <a:ext cx="8317080" cy="5089320"/>
        </p:xfrm>
        <a:graphic>
          <a:graphicData uri="http://schemas.openxmlformats.org/drawingml/2006/table">
            <a:tbl>
              <a:tblPr/>
              <a:tblGrid>
                <a:gridCol w="5569200"/>
                <a:gridCol w="1373040"/>
                <a:gridCol w="1374840"/>
              </a:tblGrid>
              <a:tr h="7556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ng towards 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Old towards yo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76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Osaka"/>
                        </a:rPr>
                        <a:t>Grand 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80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Has household member &gt;70 [&lt;3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1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Discusses personal issues with family member &gt;70 [grandchild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6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0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ttends religious services at least month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6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Did paid or volunteer work past mon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Worked with colleagues or volunteers in their 70s [30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Gender (female=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5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ge (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6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Lives with part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1960">
                <a:tc>
                  <a:txBody>
                    <a:bodyPr lIns="49320" rIns="49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Has ≥2 friends &gt;70 [&lt;3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"/>
          <p:cNvSpPr/>
          <p:nvPr/>
        </p:nvSpPr>
        <p:spPr>
          <a:xfrm>
            <a:off x="1121040" y="1197000"/>
            <a:ext cx="597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, cont’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th engage in cross-age interactions t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less ageist (as ex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ality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1125360" y="1052640"/>
            <a:ext cx="74455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ping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ideration of both young and old is rather u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llenge is to develop (and evaluate!)* “intergenerational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ies that do not reinforce gender inequaliti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class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ing societies are not only about old peop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atural experiments, combinations of longitudinal surve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gistry data, cross-nationally compara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1067400" y="692280"/>
            <a:ext cx="67550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support for my research come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Research Council Advanced Investigator G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RC, 324211)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es in Contex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amework Large Scale Integrating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C, 320116)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esAndSocieti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D:\Pearl Dykstra\Documents\Acquisitie\ERC Adv Grant\Logos\FamiliesInContext_logo_color.png"/>
          <p:cNvPicPr/>
          <p:nvPr/>
        </p:nvPicPr>
        <p:blipFill>
          <a:blip r:embed="rId2"/>
          <a:stretch/>
        </p:blipFill>
        <p:spPr>
          <a:xfrm>
            <a:off x="1082520" y="2963880"/>
            <a:ext cx="2627640" cy="931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ttp://www.FamiliesAndSocieties.eu/wp-content/themes/familiesandsocieties/images/logo_fas.png"/>
          <p:cNvPicPr/>
          <p:nvPr/>
        </p:nvPicPr>
        <p:blipFill>
          <a:blip r:embed="rId3"/>
          <a:stretch/>
        </p:blipFill>
        <p:spPr>
          <a:xfrm>
            <a:off x="1146240" y="5084640"/>
            <a:ext cx="4751280" cy="98748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C9DA-23A3-4A2E-92CF-C9322B192C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835280" y="1125360"/>
            <a:ext cx="457200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esearch: late life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 family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-term impact of div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storic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wit_achterkant_liggend_NL_vervolg"/>
          <p:cNvPicPr/>
          <p:nvPr/>
        </p:nvPicPr>
        <p:blipFill>
          <a:blip r:embed="rId2"/>
          <a:stretch/>
        </p:blipFill>
        <p:spPr>
          <a:xfrm>
            <a:off x="2232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758880" y="260280"/>
            <a:ext cx="9543960" cy="5686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8459640" y="1341360"/>
            <a:ext cx="1843200" cy="4605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459640" y="1197000"/>
            <a:ext cx="18432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9037800" y="6021360"/>
            <a:ext cx="2872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244000" y="5732640"/>
            <a:ext cx="9237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8F9B-D14D-414B-9471-C3A04307B8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55640" y="612720"/>
            <a:ext cx="813744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mographic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increased longe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opportunities for intergenerational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ities in the needs of young and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3"/>
          <p:cNvCxnSpPr/>
          <p:nvPr/>
        </p:nvCxnSpPr>
        <p:spPr>
          <a:xfrm>
            <a:off x="7308720" y="2060280"/>
            <a:ext cx="1153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1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F9B7-FA63-4B81-891B-0CEBB76EE0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33640" y="189000"/>
            <a:ext cx="7524720" cy="564336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D002-B204-4F9F-9396-AB7AA70A03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755640" y="612720"/>
            <a:ext cx="813744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mographic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increased longe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opportunities for intergenerational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ities in the needs of young and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 worlds of children strongly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3"/>
          <p:cNvCxnSpPr/>
          <p:nvPr/>
        </p:nvCxnSpPr>
        <p:spPr>
          <a:xfrm>
            <a:off x="7380000" y="2707920"/>
            <a:ext cx="1152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11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C2FC-28A7-47FF-88FF-F3D6FBAAA2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971640" y="1484280"/>
          <a:ext cx="9016920" cy="393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484280"/>
                    <a:ext cx="901692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4BB9-5756-40D5-AE44-A96F14AFE7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wit_achterkant_liggend_NL_vervol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826920" y="40464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826920" y="692280"/>
            <a:ext cx="7921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insights from taking a multigenerational view of family ties across life phases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xamples from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73AB-CC94-40D3-B3E4-F76D38767B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3:45:11Z</dcterms:created>
  <dc:creator>Jan Pinto</dc:creator>
  <dc:description/>
  <dc:language>en-US</dc:language>
  <cp:lastModifiedBy>Pearl Dykstra</cp:lastModifiedBy>
  <dcterms:modified xsi:type="dcterms:W3CDTF">2015-09-16T09:10:50Z</dcterms:modified>
  <cp:revision>256</cp:revision>
  <dc:subject/>
  <dc:title>PowerPoint Presentation</dc:title>
</cp:coreProperties>
</file>