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D17-A310-4F0E-936B-6D7D29C1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D6D4-9A5F-46C8-9FBC-A4B1E65A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E6F-E03C-46B8-9E10-C695FC5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7D3-C1C6-4A7A-A333-79FAB4D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ED6-25B4-48F6-9EB6-B5F44D18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D04-FE25-4401-B1DD-990E0726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0B6-901B-4EF6-B77A-2F00DB8C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398-96D7-47CD-956D-46B410E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2A7-1DFD-45FF-BA90-67E4DB8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928-6571-4230-8778-6610A53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D29-F128-4821-A627-E780CD4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90E-D47A-49DE-925E-10EC28E3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4A1-9F0E-4E1E-A0AE-85E7D0D0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E88-E76A-4EDC-B8F0-C1437F5E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wit_achterkant_liggend_NL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835-B323-4AC9-BA2B-A743910E8A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5640" y="16128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K Ageing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55640" y="2852640"/>
            <a:ext cx="8209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ageing affects all 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arl A. Dy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Queen’s University Belfast, September 17, 20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retireme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ndparenthood speeds up retirement, particularly for olde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ompelling finding, given efforts to increase labour 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ipation in Europ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Bavel &amp; De Winter (2013), based on 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See 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skanen et al., 2014 for retirement inten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F9D8-2861-4764-8475-4360DA9CE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mobilit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oth men and women: a strong and statistically significant net* association between grandparents’** and grandchildren’s class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ntrolling for parents’ social class, educational  attainment, wealth, and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maternal 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parents’ effect in social mobility most striking in cases of upward countermobility (not! regression towards the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n &amp; Boliver (2013), based on 1946, 1958 and 1970 British birth coh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B40-5F1F-4127-A8C0-FD0D6E8A3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ater likelihood another child 8 to 10 years l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grandparents regularly provided child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time of the first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= support for cooperative breeding hypoth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ptijn et al. (2010), based on NESTOR-LSN and LASA, 1992 –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als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k &amp; Kreyenfeld, 2003; Aassve, Meroni, &amp; Pronzato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04D-5B63-4F10-8E3E-37AB34A18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92160" y="861840"/>
            <a:ext cx="768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so f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avoid a “chopped up” notion of what families ar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7B8E-5B10-4CA3-BB02-8E43ACAF83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992160" y="120816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al interdependence is shaped by laws and policies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from a cross-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dependence: emotional, practical, financial, moral relianc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sponsibility for famil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CFB-D858-4F81-BACE-D6EE55B0BD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26920" y="671400"/>
            <a:ext cx="813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cus on “intergenerational” laws and polici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-28 + Norway +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S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sometimes OECD,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CCCA-6CC7-4F6E-AF50-A78397128C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862560" y="422280"/>
            <a:ext cx="690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erived benefits: Care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zerland: only country that has statutory maternity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, no leave for fa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: no statutory leave for mothers or fa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number of countries have father quotas/bo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to care for dependents: gender neutral descrip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men more likely to make use of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31B6-7E3A-4050-B0FE-7B3AE48647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826920" y="404640"/>
            <a:ext cx="813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erived benefits: Car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n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recognition of the unpaid work of child rearing and family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 flat-rated credits rather than earnings-related (disadvantage for better qualified wo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flat rates are not applied in the mor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 security arrangements of unemployment, health or accident insurance (Marin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 care credits only awarded to women or only to men when women waive their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credits: source of debate between ‘care feminis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‘employment feminis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12F-47C6-4389-A369-5533780DD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001880" y="614520"/>
            <a:ext cx="8137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andated interdependenc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tie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ge (e.g., parents financially responsible until child reaches the age of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ght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ge (e.g., parents entitled to financial support until child turns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ght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of role occupancy (e.g., father can qualify for leave only if the mother also meets work duration requirem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has negative effects on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(e.g., if paid illness leave exceeds a maximum, the care provider may lose full pension r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066C-B46A-45C7-AB87-5F7CA6535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996840" y="765000"/>
            <a:ext cx="717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andated interdependenc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of attorney, authority of parents/guar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tenance responsibilities (wide variation acr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nations regarding which family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clud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eme example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0E5E-35F1-469E-ACEF-0D1A18DB5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026000" y="1413000"/>
            <a:ext cx="773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iration com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unhild O. Hagestad &amp; Pearl A. Dy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ation of the life course: Some neglected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andbook of the life cours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2nd edition,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T. Mortimer, M. J. Shanahan, &amp; M. K. Johnson (Ed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F87B-4A7C-49B7-BC54-4B4D53826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391440" cy="4181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1102320" y="66204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treme form of mandated interdepen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1B62-0BA2-456D-8B5E-E518C7E243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881640" y="549360"/>
            <a:ext cx="5833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Implicit versus explicit inter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define rights and duties of family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each othe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plic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while poli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their absence) reward or discourage part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practic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lleng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how country-specif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frameworks imp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amily members and/or support indivi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f. O’Connor,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A80A-22A9-438B-8FBB-634905B73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755640" y="1484280"/>
            <a:ext cx="849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ion of responsibilities between state an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ossible policy patterns (Saraceno &amp; Keck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lism by 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o or few publicly prov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s to family care and/or finan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ed familia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policies support famili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ing up their financial and caring responsi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.g. paid leaves, child benefits, cash for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y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mili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are and financial needs are par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ed through public provision (e.g. servi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multilinks_rgb_onWhite"/>
          <p:cNvPicPr/>
          <p:nvPr/>
        </p:nvPicPr>
        <p:blipFill>
          <a:blip r:embed="rId2"/>
          <a:stretch/>
        </p:blipFill>
        <p:spPr>
          <a:xfrm>
            <a:off x="5456160" y="0"/>
            <a:ext cx="3689280" cy="13716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AFF8-0624-496F-9566-85F8E3A3DA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812880" y="476280"/>
            <a:ext cx="7775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ceno &amp; Keck 2011: Importance of distinguish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ublic provisions (cf. Gornick &amp; Meyer, 2008; Javornick, 2014; Leitner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mplications for gender and socioeconomic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h for care pay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n more easily by women than men, and by low paid women than high pai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better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sist men and women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ing paid and unpai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B07-6319-4FE2-A411-3F0432DAE3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804960" y="44280"/>
            <a:ext cx="8088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al evidence is now emerging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HP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endroth et al (2014): the motherhoo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ccupational status penal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 in European countries where expenditures on public childcare are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ry to expectations: not exacerbated in countries with high spending on family cash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mid et al (2012)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mbal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proportions of men and women providing intensive care is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ging parents receive cash for care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 addition to the care received from adult 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 when they receive services in k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30B8-3871-46EC-B541-069203B905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766800" y="476280"/>
            <a:ext cx="8126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: gender convergence in interdependence as structured by law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: strong contrasts between how men and wom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ve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y (2013): men and women have different “master statu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5C7B-FF81-455C-981C-912CE1AD2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766800" y="47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cus on intergenerational interdependence neglects those with no or limited vertical ties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focus on the child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65F-909C-41CB-B585-39FFD2A655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766800" y="476280"/>
            <a:ext cx="7775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ves of the childless are not following ready-made scripts—contrary to those of parents (Dykstra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influence of parenth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societ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by law (du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level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nue toward social inte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level of individ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hood as “transforming event”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0CA-73F0-4081-B039-C3188C2A7C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66800" y="476280"/>
            <a:ext cx="77756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lock inter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tween the childless and their network members (Ivanova &amp; Dykstra, 2015)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tlements to care leaves restricted to parents, children and sp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legal rights for non-relatives in health and car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stantially higher inheritance taxation for non-re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C88-559D-4ACB-845E-5F148ADD5F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766800" y="476280"/>
            <a:ext cx="77756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cial to rethink the primacy of family members in current legal arrangements (medical decisions, care, inheritance, tax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764-53AD-4272-8D80-EBE08F5301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55640" y="612720"/>
            <a:ext cx="81374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3"/>
          <p:cNvCxnSpPr/>
          <p:nvPr/>
        </p:nvCxnSpPr>
        <p:spPr>
          <a:xfrm>
            <a:off x="7380000" y="1412640"/>
            <a:ext cx="115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D4E-0D68-478A-A85C-358F402A46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1094760" y="343080"/>
            <a:ext cx="6596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a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ols of eligible ‘others’ shap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ographic shifts in proportions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tthews &amp; Sun, 2006; Murphy et al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etal age segregation (Hagestad &amp; Uhlenberg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042920" y="404640"/>
            <a:ext cx="733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 segr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 separation of age groups i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ed topic, apart from research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gap” (’60s and ’70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wars” (’80s onw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age groups is produced and reinforc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artitie” life course (Kohli, 1985; Riley &amp; Riley,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for concern about age segregation: product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gestad &amp; Uhlenberg, 2005a, 200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argument around: ageism might be reduced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inter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f. Allport, 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042920" y="476280"/>
            <a:ext cx="7561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Key principl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urable intera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people of different ages foster mutual understanding (e.g., Pettigrew,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d 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having friends who differ in 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eist attitudes that young people [old people] have of old people [young peop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42920" y="476280"/>
            <a:ext cx="7338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data: round 4 of the E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-item module on “experiences and expressions of age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Abrams, Lima &amp; Cou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friend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how many friends, other than members of your family, do you have who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30?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d 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?)” (0, 1, 2-5, 6-9, 10 or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how negative or positive d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el towards peopl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20s? (over 70?)” (0 = extremely negative, 10 = extrem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EU countries (no ESS in IT, LU, M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respondents &lt; 30 (N~8700), and ≥ 70 (N~66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042920" y="476280"/>
            <a:ext cx="7338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cript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% re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two or m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30: 18% (range: 4% LT, 36% 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: 31% (range: 6% LT, 50% 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&lt; 30: 2.7 (range: 1.9 FI, 3.7 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: 3.1 (range: 2.0 GR, 4.0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116000" y="260280"/>
            <a:ext cx="73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geism and cross-age interaction (mean leve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836640"/>
          <a:ext cx="8317080" cy="5089320"/>
        </p:xfrm>
        <a:graphic>
          <a:graphicData uri="http://schemas.openxmlformats.org/drawingml/2006/table">
            <a:tbl>
              <a:tblPr/>
              <a:tblGrid>
                <a:gridCol w="5569200"/>
                <a:gridCol w="1373040"/>
                <a:gridCol w="1374840"/>
              </a:tblGrid>
              <a:tr h="755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ng toward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Old towards yo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7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Grand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8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as household member &gt;70 [&lt;3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scusses personal issues with family member &gt;70 [grandchil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ttends religious services at least 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d paid or volunteer work past 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Worked with colleagues or volunteers in their 70s [30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Gender (female=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ge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Lives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19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as ≥2 friends &gt;70 [&lt;3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1121040" y="1197000"/>
            <a:ext cx="597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engage in cross-age interactions 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less ageist (as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1125360" y="1052640"/>
            <a:ext cx="74455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ideration of both young and old is rathe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is to develop (and evaluate!)* “intergenerational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that do not reinforce gender inequaliti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class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societies are not only about old peo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atural experiments, combinations of longitudinal surve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gistry data, cross-nationally compara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1067400" y="692280"/>
            <a:ext cx="67550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support for my research come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Research Council Advanced Investigator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RC, 324211)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in Contex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work Large Scale Integrating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C, 320116)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AndSocieti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D:\Pearl Dykstra\Documents\Acquisitie\ERC Adv Grant\Logos\FamiliesInContext_logo_color.png"/>
          <p:cNvPicPr/>
          <p:nvPr/>
        </p:nvPicPr>
        <p:blipFill>
          <a:blip r:embed="rId2"/>
          <a:stretch/>
        </p:blipFill>
        <p:spPr>
          <a:xfrm>
            <a:off x="1082520" y="2963880"/>
            <a:ext cx="2627640" cy="93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www.FamiliesAndSocieties.eu/wp-content/themes/familiesandsocieties/images/logo_fas.png"/>
          <p:cNvPicPr/>
          <p:nvPr/>
        </p:nvPicPr>
        <p:blipFill>
          <a:blip r:embed="rId3"/>
          <a:stretch/>
        </p:blipFill>
        <p:spPr>
          <a:xfrm>
            <a:off x="1146240" y="5084640"/>
            <a:ext cx="4751280" cy="98748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D470-0311-4B04-A727-AC69CDB5CB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835280" y="1125360"/>
            <a:ext cx="45720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esearch: late life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family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-term impact of div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ric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wit_achterkant_liggend_NL_vervolg"/>
          <p:cNvPicPr/>
          <p:nvPr/>
        </p:nvPicPr>
        <p:blipFill>
          <a:blip r:embed="rId2"/>
          <a:stretch/>
        </p:blipFill>
        <p:spPr>
          <a:xfrm>
            <a:off x="2232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58880" y="260280"/>
            <a:ext cx="9543960" cy="5686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8459640" y="1341360"/>
            <a:ext cx="1843200" cy="4605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459640" y="1197000"/>
            <a:ext cx="18432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9037800" y="6021360"/>
            <a:ext cx="2872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44000" y="5732640"/>
            <a:ext cx="9237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201-4972-453B-ACFC-96C1E9524B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55640" y="612720"/>
            <a:ext cx="81374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ies in the needs of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3"/>
          <p:cNvCxnSpPr/>
          <p:nvPr/>
        </p:nvCxnSpPr>
        <p:spPr>
          <a:xfrm>
            <a:off x="7308720" y="2060280"/>
            <a:ext cx="1153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8D53-99C0-4B53-A194-7D7930310B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33640" y="189000"/>
            <a:ext cx="7524720" cy="56433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389-E9F8-42D3-975B-BD958E672E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755640" y="612720"/>
            <a:ext cx="813744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ies in the needs of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worlds of children strongly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3"/>
          <p:cNvCxnSpPr/>
          <p:nvPr/>
        </p:nvCxnSpPr>
        <p:spPr>
          <a:xfrm>
            <a:off x="7380000" y="2707920"/>
            <a:ext cx="115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94EB-6A41-4A78-90E1-8E09E1FEFC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971640" y="1484280"/>
          <a:ext cx="9016920" cy="393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484280"/>
                    <a:ext cx="90169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7FC-1F0A-4B1E-BB87-EC8A0A4F8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26920" y="692280"/>
            <a:ext cx="7921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insights from taking a multigenerational view of family ties across life phases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xamples from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AFD6-4E57-4C94-9CFD-275681A539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3:45:11Z</dcterms:created>
  <dc:creator>Jan Pinto</dc:creator>
  <dc:description/>
  <dc:language>en-US</dc:language>
  <cp:lastModifiedBy>Pearl Dykstra</cp:lastModifiedBy>
  <dcterms:modified xsi:type="dcterms:W3CDTF">2015-09-16T09:10:50Z</dcterms:modified>
  <cp:revision>256</cp:revision>
  <dc:subject/>
  <dc:title>PowerPoint Presentation</dc:title>
</cp:coreProperties>
</file>